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C5C-58B9-413F-A163-55694733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7A2-BBCE-4E58-85C2-AAF938DA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CEE-BD46-405C-B2FB-7B272FA0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7B2-30CD-48A7-BF9E-FA10DDF7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587E-C3FF-4E92-B7D9-1521E4A9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2A57-D986-4052-ADD7-6A6F1C22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BA0B-74A5-47E4-ABD0-A1E92052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DD7F-76F1-43A6-A371-7CB489DB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064D-CA9E-46DF-A27D-85251349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248D-AD2C-4A67-9C11-6A8B4487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254B-717A-4BCD-A33F-85DD2023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8AF-F399-4566-A68B-7542CF6A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F09D-6C7A-4FF4-A1C2-77E00BD0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D479-0537-49CE-B6F1-4E68B4A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9FE1-8326-4D1B-9264-A3B1AE4E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19AE-4B72-42BB-A73C-339E216B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BD9A-DD6B-4DE3-8762-9029FEA5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41D-F430-4C2B-B851-2194D31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375-0C38-4620-A832-344DD67A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2E9-D2DA-4D4E-A93E-50C9381D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0CE-3490-4284-A40F-DE4FD042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378-E5D0-42FC-B239-FCCB78DC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EF6-E876-4136-9ACC-B8FB2DBC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82D-8F64-4EE4-AD2A-8D7989F8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F5B9-BDB9-42FF-8D0F-F8F39BA97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489D-E34D-4458-9D7C-C97974F4D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alkboard"/>
              </a:rPr>
              <a:t>Arrow Penet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Van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Int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you’re a big game hunter and use a bow this may be helpful. When you are at a proshop like Cabalas, Bass pro ,or Heartland and need to buy arrows but don’t know what vane size to buy? I’m here to make this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d Head Carbon Fury 4560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rrows with 2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(after market Realtree Blaz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rrows with 4’’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(st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ape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d and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Proced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asure 20y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ck an arrow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d 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cord  then repeat 2 mor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cord for each shot then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lean and le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47920" y="2666880"/>
          <a:ext cx="701028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666880"/>
                    <a:ext cx="7010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 conclusion the 2’’ penetrated more. Even though it was 0.06 off it was still more. But I say they are a tie. Cause they could have hit a soft spot on the tar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ossible Causes 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gle of penet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ot hit on th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ene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an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ed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ame Bow and Ar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9:42:02Z</dcterms:created>
  <dc:creator>STERLING  USD376</dc:creator>
  <dc:description/>
  <dc:language>en-US</dc:language>
  <cp:lastModifiedBy>USD376</cp:lastModifiedBy>
  <dcterms:modified xsi:type="dcterms:W3CDTF">2010-02-11T16:03:15Z</dcterms:modified>
  <cp:revision>4</cp:revision>
  <dc:subject/>
  <dc:title>Arrow Penetration</dc:title>
</cp:coreProperties>
</file>